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E7F-4554-4D48-B534-721162C3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65C-88A6-40D8-B100-8CF674F7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286-9A62-4C36-A93C-0C5087CD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0BC-A1F3-45CF-9848-B147DD02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118-872A-4C60-9E2A-50AF74DF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94E-B899-4E47-9D27-F0BF851A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66D-0A00-4952-9D59-A3A27EB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CFD-ADE0-4237-8CD7-B4E7669E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948-5A5B-4BFE-9BCF-581137B0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99F8-7271-4D84-BA04-74007ED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A5B-8E51-45AC-A172-72B818A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72C-5F25-44D0-8FC8-EAAA3FC5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1989-1A24-476E-ADED-DA8280D4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Techniqu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609480"/>
            <a:ext cx="838224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re will be 2 piecewise function questions on today’s post-quiz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 a piecewise-defined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definition of a piecewise-defined function from its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33600" y="838080"/>
            <a:ext cx="5553000" cy="438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04920" y="15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3080" y="3962520"/>
            <a:ext cx="8994600" cy="1296720"/>
            <a:chOff x="73080" y="3962520"/>
            <a:chExt cx="8994600" cy="12967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3080" y="3962520"/>
              <a:ext cx="8994600" cy="121896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sp>
          <p:nvSpPr>
            <p:cNvPr id="47" name=""/>
            <p:cNvSpPr/>
            <p:nvPr/>
          </p:nvSpPr>
          <p:spPr>
            <a:xfrm>
              <a:off x="8153280" y="4419720"/>
              <a:ext cx="68580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76920" y="4800600"/>
              <a:ext cx="129528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76920" y="4419720"/>
              <a:ext cx="114300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153280" y="4800600"/>
              <a:ext cx="6858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4662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181480" y="4281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29600" y="4281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29600" y="4738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6320" y="1600200"/>
            <a:ext cx="8991360" cy="1906560"/>
            <a:chOff x="76320" y="1600200"/>
            <a:chExt cx="8991360" cy="190656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76320" y="1600200"/>
              <a:ext cx="8991360" cy="1841400"/>
            </a:xfrm>
            <a:prstGeom prst="rect">
              <a:avLst/>
            </a:prstGeom>
            <a:ln w="28440">
              <a:solidFill>
                <a:srgbClr val="008000"/>
              </a:solidFill>
              <a:miter/>
            </a:ln>
          </p:spPr>
        </p:pic>
        <p:sp>
          <p:nvSpPr>
            <p:cNvPr id="57" name=""/>
            <p:cNvSpPr/>
            <p:nvPr/>
          </p:nvSpPr>
          <p:spPr>
            <a:xfrm>
              <a:off x="2819520" y="2666880"/>
              <a:ext cx="609480" cy="381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5480" y="3048120"/>
              <a:ext cx="609840" cy="3808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2604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95480" y="2986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19T10:03:51Z</dcterms:modified>
  <cp:revision>11</cp:revision>
  <dc:subject/>
  <dc:title>Slide 1</dc:title>
</cp:coreProperties>
</file>